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733-9B98-4EF7-A0F2-61E3E7D4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24F-0FCB-4CCC-ADC6-36CE692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9BC-2BB2-4B58-B415-2361C867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BF8-B198-42C5-BFFC-575F5F6D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78B4-FB01-4793-B52F-99E9CAA7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061-E150-4CCF-BD9E-30AC916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D2F-FF05-444C-BA1D-98DAF94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9B57-EABA-4B59-86E5-E4989DC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80B2-B860-40F6-AAFC-8A865FB1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4EEE-E5D6-48E2-873F-9E5817AB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88BF-FAC2-408A-BA25-BD2EE44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C00-4068-436E-B38C-32C93C0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BD02-007A-4680-9EF5-58599DFE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030-C0D8-4EB5-A167-0DEE6A68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8E12-873A-42A4-BF9B-5260F78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6B0-BA07-4B71-A853-D3853AAA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5C7A-64C2-4231-B47F-D7C76C35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606-702D-4425-98AC-6A9EE794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383-CFCE-4646-B9E0-4F05A93D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1C6-0C96-4FEA-9C25-D5612A18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213-66CF-41A7-8768-B2EBFB7C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00E-A8AB-446B-BA08-92D11BB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627-B4B8-4005-AC96-AB8C93ED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34E-8F5E-4491-8B67-D2428C5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D1EF-427B-4DE7-99BC-7CF1C2368D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FC50-7686-46D3-BBE7-1CDC534D11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National Minoriti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Bolsheviks takes power)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14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ffff"/>
                </a:solidFill>
                <a:latin typeface="Comic Sans MS"/>
              </a:rPr>
              <a:t>Georg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ffff"/>
                </a:solidFill>
                <a:latin typeface="Comic Sans MS"/>
              </a:rPr>
              <a:t>Ukra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ffff"/>
                </a:solidFill>
                <a:latin typeface="Comic Sans MS"/>
              </a:rPr>
              <a:t>Fin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fore the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part of Sweden since the twelfth centu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iven to Russia in 1808 due to Napoleons alliance with Alexander 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Finns kept their own Postal System, currency, schooling system, and die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empts to make the whole country purely Russian only alienated the Finns and caused revolu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fter the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fter the 1905 revolution the Czar gave Finland its own Constitu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elections were held in 1907 and the Social Democratic won 80 seats out of 200 at the Sej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the elections in 1916 they won full major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nin gave a choice to be independent or to join the new Communist s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was surprised with the number of the nationalities that wanted to break awa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o, The Bolshevik policy was abandoned and they decided to re-establish control.Georgia become independ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This happened in 1918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France and England eventually recognized Georgia, but offered no concrete support.(no food,no mone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1828800" y="1981080"/>
            <a:ext cx="5486400" cy="3400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ook Antiqua"/>
              </a:rPr>
              <a:t>Ukrain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Ukranian nation lost their entire independence from the Russian ru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did not gain anything  :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1) Economic growth was long stun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Estrangelo Edess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Gradually became a nation of priests and peasa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3) Level of literacy declined (17</a:t>
            </a:r>
            <a:r>
              <a:rPr b="1" lang="en-US" sz="2000" spc="-1" strike="noStrike" baseline="30000">
                <a:solidFill>
                  <a:srgbClr val="ffffff"/>
                </a:solidFill>
                <a:latin typeface="Estrangelo Edessa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-19</a:t>
            </a:r>
            <a:r>
              <a:rPr b="1" lang="en-US" sz="2000" spc="-1" strike="noStrike" baseline="30000">
                <a:solidFill>
                  <a:srgbClr val="ffffff"/>
                </a:solidFill>
                <a:latin typeface="Estrangelo Edessa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 century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kranian language was also banned to cut short the revival of national consciousn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id Ukraine lose their independen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ivil war (3 yea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easants stopped planting what would only be seized and Ukraine suffered its first famine, Lenin announced capitalism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* Ukraine split with the Bolsheviks and signed a separate treaty with Germany -19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1666" t="11665" r="1665" b="1667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9907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p of Georgi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-54000" y="5854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eorgia became independe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This happened in 1918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France and England eventually recognized Georgia, but offered no concrete support.(no food,no mone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ff00"/>
                </a:solidFill>
                <a:uFillTx/>
                <a:latin typeface="Comic Sans MS"/>
              </a:rPr>
              <a:t>Georg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2209680"/>
            <a:ext cx="784836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Georgia was briefly part of a Transcaucasian federation and then became an independent democratic state for three years under Social Democratic (Menshevik) leadership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64024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Comic Sans MS"/>
              </a:rPr>
              <a:t>Back to the Engla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Early in 1921, apparently at Stalin's instigation, the Red Army invaded and conquered Georgi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Leaving an estimated 10,000 dead and 20,000 deported to Siberi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became their own country in 1991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la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322200" y="39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47920" y="1536840"/>
            <a:ext cx="6095880" cy="532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1143000"/>
            <a:ext cx="198108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ple apple</cp:lastModifiedBy>
  <dcterms:modified xsi:type="dcterms:W3CDTF">2007-11-12T16:36:54Z</dcterms:modified>
  <cp:revision>6</cp:revision>
  <dc:subject/>
  <dc:title>Map of the Georgia</dc:title>
</cp:coreProperties>
</file>